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EE2-C746-466D-8030-D1E44238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96C-1643-4E67-B746-C40F745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A2F-8060-4B7E-A45F-FD2BDF14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F02-FB29-4ED1-B179-020C57CA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53EB-E612-48CE-A8D1-EF6D1932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7BB9-7EFC-4FF0-9ACC-ACE1BAE4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C2EA-94A2-4B72-929D-FE85D5CE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D172-E856-467F-B0E5-B2086FA2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E17D-BC2C-428A-BBE4-7BA4DAFA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F5DB-3A4B-4312-823E-D6E02FD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F2B0-48B7-4EDA-AFC9-C05CB0C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AF5-C481-4D8F-83AB-BC14CEB6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243-FC8C-4AA7-AC8D-BADB18B4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7727-39C1-43A0-8E26-A7D6A92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10EA-12A4-46C6-BD49-6729C03A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D1BF-9879-4B1B-8A65-F41002F4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3CF9-2AA7-4325-9853-F813C3AC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8D6-41E4-4547-AB1D-3C118A40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BE8-164E-413D-B525-8715F9EB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D81-74DD-41BC-A216-402334F1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F58-9C58-458D-900F-28138F93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4CE-C10B-4567-944A-7B6E0C5E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58B-2698-4357-9556-85D43602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52C-0A18-40F7-A389-7FF30679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C640-0F30-427C-BAF0-5BC27E94025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4847-AD4F-4AF3-84AE-DCDE2AB88EB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00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00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6600cc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15Z</dcterms:modified>
  <cp:revision>45</cp:revision>
  <dc:subject/>
  <dc:title>幻灯片 1</dc:title>
</cp:coreProperties>
</file>